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AE09-B3EF-437E-8101-3012DA280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ED03-B4D9-4DFD-B90B-75BEE2BD8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DD53-C924-41EF-8B93-6DA4BABC3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9129-CE58-4B88-9D6B-9FD26DB1C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6CDB-F67F-48CA-A763-691648987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BC0A-CE48-47CE-98E6-8B1740CBD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8DAC-3B15-4427-B787-92089F160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617F-9FF6-4E53-BE1B-E5535AEDD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0FF9-996F-43FF-A0BA-9B6E87119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C9EA-CF97-40F0-BE6E-3F83A1074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0BAC-E46B-43B4-872D-C0CEBC172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6410-AA3B-454A-8189-B9D98F2AF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EEAB-5AF1-4790-BE40-06FA02744B97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2252" r="0" b="0"/>
          <a:stretch/>
        </p:blipFill>
        <p:spPr>
          <a:xfrm>
            <a:off x="152280" y="4232160"/>
            <a:ext cx="3581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i-square tes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est to see if your data support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our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are “observed” vs. “expected” data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s variance from expected due to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random chance”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 is there another factor influencing data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ll hypo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grees of freedo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atistical significanc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 &amp;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endel’s laws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gregatio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dependent assortmen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flect same laws of probability that apply to tossing coins or rolling dic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3762360" cy="2127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62760" y="457200"/>
            <a:ext cx="18763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33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culating probability of making a specific gamete is just like calculating the probability in flipping a co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tossing heads?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mak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amet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4520" y="4723920"/>
            <a:ext cx="843840" cy="461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0%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90200" y="2229840"/>
            <a:ext cx="1028160" cy="461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72200" y="1600200"/>
            <a:ext cx="2049480" cy="1752480"/>
            <a:chOff x="6172200" y="1600200"/>
            <a:chExt cx="2049480" cy="1752480"/>
          </a:xfrm>
        </p:grpSpPr>
        <p:grpSp>
          <p:nvGrpSpPr>
            <p:cNvPr id="108" name=""/>
            <p:cNvGrpSpPr/>
            <p:nvPr/>
          </p:nvGrpSpPr>
          <p:grpSpPr>
            <a:xfrm>
              <a:off x="6172200" y="2097000"/>
              <a:ext cx="838080" cy="838080"/>
              <a:chOff x="6172200" y="2097000"/>
              <a:chExt cx="838080" cy="83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6172200" y="20970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29080" y="2248560"/>
                <a:ext cx="732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7612200" y="1600200"/>
              <a:ext cx="609480" cy="609480"/>
              <a:chOff x="7612200" y="1600200"/>
              <a:chExt cx="609480" cy="609480"/>
            </a:xfrm>
          </p:grpSpPr>
          <p:sp>
            <p:nvSpPr>
              <p:cNvPr id="112" name=""/>
              <p:cNvSpPr/>
              <p:nvPr/>
            </p:nvSpPr>
            <p:spPr>
              <a:xfrm>
                <a:off x="7612200" y="16002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89240" y="162936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612200" y="2743200"/>
              <a:ext cx="609480" cy="609480"/>
              <a:chOff x="7612200" y="2743200"/>
              <a:chExt cx="609480" cy="60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7612200" y="27432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9240" y="277236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rot="1800000">
              <a:off x="7002000" y="266688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19800000">
              <a:off x="7002000" y="213336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80120" y="4114800"/>
            <a:ext cx="2049480" cy="1752480"/>
            <a:chOff x="6180120" y="4114800"/>
            <a:chExt cx="2049480" cy="1752480"/>
          </a:xfrm>
        </p:grpSpPr>
        <p:grpSp>
          <p:nvGrpSpPr>
            <p:cNvPr id="120" name=""/>
            <p:cNvGrpSpPr/>
            <p:nvPr/>
          </p:nvGrpSpPr>
          <p:grpSpPr>
            <a:xfrm>
              <a:off x="6180120" y="4611600"/>
              <a:ext cx="838080" cy="838080"/>
              <a:chOff x="6180120" y="4611600"/>
              <a:chExt cx="838080" cy="838080"/>
            </a:xfrm>
          </p:grpSpPr>
          <p:sp>
            <p:nvSpPr>
              <p:cNvPr id="121" name=""/>
              <p:cNvSpPr/>
              <p:nvPr/>
            </p:nvSpPr>
            <p:spPr>
              <a:xfrm>
                <a:off x="6180120" y="46116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57520" y="47631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620120" y="4114800"/>
              <a:ext cx="609480" cy="609480"/>
              <a:chOff x="7620120" y="4114800"/>
              <a:chExt cx="609480" cy="609480"/>
            </a:xfrm>
          </p:grpSpPr>
          <p:sp>
            <p:nvSpPr>
              <p:cNvPr id="124" name=""/>
              <p:cNvSpPr/>
              <p:nvPr/>
            </p:nvSpPr>
            <p:spPr>
              <a:xfrm>
                <a:off x="7620120" y="41148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97160" y="414396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620120" y="5257800"/>
              <a:ext cx="609480" cy="609480"/>
              <a:chOff x="7620120" y="5257800"/>
              <a:chExt cx="609480" cy="60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7620120" y="525780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18760" y="52873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rot="1800000">
              <a:off x="7010280" y="518112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19800000">
              <a:off x="7010280" y="46483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utcome of 1 toss has no impact on the outcome of the next tos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tossing heads each tim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mak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amete each tim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1840" y="32760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1840" y="41904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1005120" cy="20131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6553080" y="4114800"/>
            <a:ext cx="2049480" cy="1752480"/>
            <a:chOff x="6553080" y="4114800"/>
            <a:chExt cx="2049480" cy="1752480"/>
          </a:xfrm>
        </p:grpSpPr>
        <p:grpSp>
          <p:nvGrpSpPr>
            <p:cNvPr id="137" name=""/>
            <p:cNvGrpSpPr/>
            <p:nvPr/>
          </p:nvGrpSpPr>
          <p:grpSpPr>
            <a:xfrm>
              <a:off x="6553080" y="4611600"/>
              <a:ext cx="838080" cy="838080"/>
              <a:chOff x="6553080" y="4611600"/>
              <a:chExt cx="838080" cy="838080"/>
            </a:xfrm>
          </p:grpSpPr>
          <p:sp>
            <p:nvSpPr>
              <p:cNvPr id="138" name=""/>
              <p:cNvSpPr/>
              <p:nvPr/>
            </p:nvSpPr>
            <p:spPr>
              <a:xfrm>
                <a:off x="6553080" y="46116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30480" y="47631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993080" y="4114800"/>
              <a:ext cx="609480" cy="609480"/>
              <a:chOff x="7993080" y="4114800"/>
              <a:chExt cx="609480" cy="609480"/>
            </a:xfrm>
          </p:grpSpPr>
          <p:sp>
            <p:nvSpPr>
              <p:cNvPr id="141" name=""/>
              <p:cNvSpPr/>
              <p:nvPr/>
            </p:nvSpPr>
            <p:spPr>
              <a:xfrm>
                <a:off x="7993080" y="41148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070120" y="414396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993080" y="5257800"/>
              <a:ext cx="609480" cy="609480"/>
              <a:chOff x="7993080" y="52578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7993080" y="525780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89920" y="52873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800000">
              <a:off x="7383240" y="518112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9800000">
              <a:off x="7383240" y="46483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81480" y="1981080"/>
            <a:ext cx="3886200" cy="47246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1523880"/>
            <a:ext cx="3886200" cy="457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culating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9600" y="15231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86560" y="152316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116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8756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2960" y="1523160"/>
            <a:ext cx="13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offspr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4480" y="248256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6520" y="24825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980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563800" y="2133000"/>
            <a:ext cx="3000960" cy="550800"/>
            <a:chOff x="5563800" y="2133000"/>
            <a:chExt cx="3000960" cy="550800"/>
          </a:xfrm>
        </p:grpSpPr>
        <p:sp>
          <p:nvSpPr>
            <p:cNvPr id="160" name=""/>
            <p:cNvSpPr/>
            <p:nvPr/>
          </p:nvSpPr>
          <p:spPr>
            <a:xfrm>
              <a:off x="5563800" y="21330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6440" y="21330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5000" y="213300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563800" y="3199680"/>
            <a:ext cx="2989440" cy="550800"/>
            <a:chOff x="5563800" y="3199680"/>
            <a:chExt cx="2989440" cy="550800"/>
          </a:xfrm>
        </p:grpSpPr>
        <p:sp>
          <p:nvSpPr>
            <p:cNvPr id="164" name=""/>
            <p:cNvSpPr/>
            <p:nvPr/>
          </p:nvSpPr>
          <p:spPr>
            <a:xfrm>
              <a:off x="5563800" y="31996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16520" y="31996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4720" y="31996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116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8756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14480" y="583524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6520" y="58352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980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573880" y="5409360"/>
            <a:ext cx="2968560" cy="550800"/>
            <a:chOff x="5573880" y="5409360"/>
            <a:chExt cx="2968560" cy="550800"/>
          </a:xfrm>
        </p:grpSpPr>
        <p:sp>
          <p:nvSpPr>
            <p:cNvPr id="173" name=""/>
            <p:cNvSpPr/>
            <p:nvPr/>
          </p:nvSpPr>
          <p:spPr>
            <a:xfrm>
              <a:off x="5573880" y="5409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16880" y="5409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95520" y="540936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575320" y="4037760"/>
            <a:ext cx="2736360" cy="550800"/>
            <a:chOff x="5575320" y="4037760"/>
            <a:chExt cx="2736360" cy="550800"/>
          </a:xfrm>
        </p:grpSpPr>
        <p:sp>
          <p:nvSpPr>
            <p:cNvPr id="177" name=""/>
            <p:cNvSpPr/>
            <p:nvPr/>
          </p:nvSpPr>
          <p:spPr>
            <a:xfrm>
              <a:off x="5575320" y="4037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06440" y="403776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27720" y="4038480"/>
              <a:ext cx="183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1595520" y="380376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99720" y="142704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54160" y="2854800"/>
            <a:ext cx="1889280" cy="889200"/>
            <a:chOff x="2054160" y="2854800"/>
            <a:chExt cx="1889280" cy="889200"/>
          </a:xfrm>
        </p:grpSpPr>
        <p:sp>
          <p:nvSpPr>
            <p:cNvPr id="183" name=""/>
            <p:cNvSpPr/>
            <p:nvPr/>
          </p:nvSpPr>
          <p:spPr>
            <a:xfrm>
              <a:off x="2130480" y="31932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11800" y="319320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4160" y="285480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8120" y="4093560"/>
            <a:ext cx="728280" cy="1951560"/>
            <a:chOff x="618120" y="4093560"/>
            <a:chExt cx="728280" cy="1951560"/>
          </a:xfrm>
        </p:grpSpPr>
        <p:sp>
          <p:nvSpPr>
            <p:cNvPr id="187" name=""/>
            <p:cNvSpPr/>
            <p:nvPr/>
          </p:nvSpPr>
          <p:spPr>
            <a:xfrm>
              <a:off x="911160" y="42602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1520" y="54158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-142920" y="485460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1"/>
          <a:srcRect l="9000" t="66008" r="75379" b="7504"/>
          <a:stretch/>
        </p:blipFill>
        <p:spPr>
          <a:xfrm>
            <a:off x="1623960" y="38606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78757" t="66008" r="4500" b="7504"/>
          <a:stretch/>
        </p:blipFill>
        <p:spPr>
          <a:xfrm>
            <a:off x="3060720" y="5059440"/>
            <a:ext cx="758880" cy="893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9000" t="66008" r="75379" b="7504"/>
          <a:stretch/>
        </p:blipFill>
        <p:spPr>
          <a:xfrm>
            <a:off x="3060720" y="38606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1623960" y="505944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1840" y="425232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58880" y="42523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22200" y="544284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58520" y="544284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rcRect l="9000" t="66008" r="75379" b="7504"/>
          <a:stretch/>
        </p:blipFill>
        <p:spPr>
          <a:xfrm>
            <a:off x="1886040" y="186840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3211560" y="1868400"/>
            <a:ext cx="7189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1116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8756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4480" y="362556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86520" y="36255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980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116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8756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4480" y="449532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86520" y="4495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9800" y="444780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4952880"/>
            <a:ext cx="53352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9800" y="48938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79400" y="401112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hance that 2 or more independent events will occur together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that 2 coins tossed at the same time will land heads up 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of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x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0066"/>
                </a:solidFill>
                <a:latin typeface="Arial"/>
              </a:rPr>
              <a:t>Rule of multiplication</a:t>
            </a:r>
            <a:endParaRPr b="1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1520" y="3504600"/>
            <a:ext cx="2869560" cy="59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1/2 </a:t>
            </a:r>
            <a:r>
              <a:rPr b="1" lang="en-US" sz="3300" spc="-1" strike="noStrike">
                <a:solidFill>
                  <a:srgbClr val="0f116a"/>
                </a:solidFill>
                <a:latin typeface="Arial"/>
              </a:rPr>
              <a:t>x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 1/2 </a:t>
            </a:r>
            <a:r>
              <a:rPr b="1" lang="en-US" sz="33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 1/4</a:t>
            </a:r>
            <a:endParaRPr b="0" lang="en-US" sz="3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31520" y="5108040"/>
            <a:ext cx="2869560" cy="59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1/2 </a:t>
            </a:r>
            <a:r>
              <a:rPr b="1" lang="en-US" sz="3300" spc="-1" strike="noStrike">
                <a:solidFill>
                  <a:srgbClr val="0f116a"/>
                </a:solidFill>
                <a:latin typeface="Arial"/>
              </a:rPr>
              <a:t>x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 1/2 </a:t>
            </a:r>
            <a:r>
              <a:rPr b="1" lang="en-US" sz="33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 1/4</a:t>
            </a:r>
            <a:endParaRPr b="0" lang="en-US" sz="33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703920" y="4773600"/>
            <a:ext cx="2049480" cy="1752480"/>
            <a:chOff x="6703920" y="4773600"/>
            <a:chExt cx="2049480" cy="1752480"/>
          </a:xfrm>
        </p:grpSpPr>
        <p:grpSp>
          <p:nvGrpSpPr>
            <p:cNvPr id="218" name=""/>
            <p:cNvGrpSpPr/>
            <p:nvPr/>
          </p:nvGrpSpPr>
          <p:grpSpPr>
            <a:xfrm>
              <a:off x="6703920" y="5270400"/>
              <a:ext cx="838080" cy="838080"/>
              <a:chOff x="6703920" y="5270400"/>
              <a:chExt cx="83808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6703920" y="52704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91040" y="54219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8143920" y="4773600"/>
              <a:ext cx="609480" cy="609480"/>
              <a:chOff x="8143920" y="4773600"/>
              <a:chExt cx="60948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8143920" y="47736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31040" y="480276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8143920" y="5916600"/>
              <a:ext cx="609480" cy="609480"/>
              <a:chOff x="8143920" y="5916600"/>
              <a:chExt cx="609480" cy="609480"/>
            </a:xfrm>
          </p:grpSpPr>
          <p:sp>
            <p:nvSpPr>
              <p:cNvPr id="225" name=""/>
              <p:cNvSpPr/>
              <p:nvPr/>
            </p:nvSpPr>
            <p:spPr>
              <a:xfrm>
                <a:off x="8143920" y="591660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40760" y="59461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rot="1800000">
              <a:off x="7534080" y="583992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19800000">
              <a:off x="7534080" y="53071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93800" y="6357960"/>
            <a:ext cx="9684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3476520"/>
            <a:ext cx="2944800" cy="3175200"/>
          </a:xfrm>
          <a:prstGeom prst="rect">
            <a:avLst/>
          </a:prstGeom>
          <a:solidFill>
            <a:srgbClr val="b7c1e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1240" y="3465360"/>
            <a:ext cx="2944800" cy="31752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culating probability in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3960" y="1371240"/>
            <a:ext cx="78058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Use rule of multiplication to predict crosse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162240" y="2179800"/>
            <a:ext cx="1143000" cy="1143000"/>
            <a:chOff x="3162240" y="2179800"/>
            <a:chExt cx="1143000" cy="1143000"/>
          </a:xfrm>
        </p:grpSpPr>
        <p:sp>
          <p:nvSpPr>
            <p:cNvPr id="235" name=""/>
            <p:cNvSpPr/>
            <p:nvPr/>
          </p:nvSpPr>
          <p:spPr>
            <a:xfrm>
              <a:off x="3162240" y="217980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8240" y="247608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861080" y="2179800"/>
            <a:ext cx="1143000" cy="1143000"/>
            <a:chOff x="4861080" y="2179800"/>
            <a:chExt cx="1143000" cy="1143000"/>
          </a:xfrm>
        </p:grpSpPr>
        <p:sp>
          <p:nvSpPr>
            <p:cNvPr id="238" name=""/>
            <p:cNvSpPr/>
            <p:nvPr/>
          </p:nvSpPr>
          <p:spPr>
            <a:xfrm>
              <a:off x="4861080" y="217980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97080" y="247608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376880" y="2484360"/>
            <a:ext cx="35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25840" y="3103560"/>
            <a:ext cx="277920" cy="714240"/>
          </a:xfrm>
          <a:prstGeom prst="downArrow">
            <a:avLst>
              <a:gd name="adj1" fmla="val 50000"/>
              <a:gd name="adj2" fmla="val 64249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021200" y="3873600"/>
            <a:ext cx="1068840" cy="891360"/>
            <a:chOff x="4021200" y="3873600"/>
            <a:chExt cx="1068840" cy="891360"/>
          </a:xfrm>
        </p:grpSpPr>
        <p:grpSp>
          <p:nvGrpSpPr>
            <p:cNvPr id="243" name=""/>
            <p:cNvGrpSpPr/>
            <p:nvPr/>
          </p:nvGrpSpPr>
          <p:grpSpPr>
            <a:xfrm>
              <a:off x="4021200" y="3873600"/>
              <a:ext cx="1068840" cy="891360"/>
              <a:chOff x="4021200" y="3873600"/>
              <a:chExt cx="1068840" cy="891360"/>
            </a:xfrm>
          </p:grpSpPr>
          <p:sp>
            <p:nvSpPr>
              <p:cNvPr id="244" name=""/>
              <p:cNvSpPr/>
              <p:nvPr/>
            </p:nvSpPr>
            <p:spPr>
              <a:xfrm>
                <a:off x="4021200" y="4051080"/>
                <a:ext cx="35604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98680" y="38736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33280" y="42300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33280" y="4051080"/>
                <a:ext cx="35676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55800" y="387360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98680" y="42300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55800" y="440856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98680" y="440856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77240" y="4051080"/>
                <a:ext cx="534600" cy="53496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148640" y="3993480"/>
              <a:ext cx="90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ea18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075200" y="4951440"/>
            <a:ext cx="96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3680" y="3676680"/>
            <a:ext cx="2778120" cy="1143000"/>
            <a:chOff x="193680" y="3676680"/>
            <a:chExt cx="2778120" cy="1143000"/>
          </a:xfrm>
        </p:grpSpPr>
        <p:grpSp>
          <p:nvGrpSpPr>
            <p:cNvPr id="256" name=""/>
            <p:cNvGrpSpPr/>
            <p:nvPr/>
          </p:nvGrpSpPr>
          <p:grpSpPr>
            <a:xfrm>
              <a:off x="193680" y="3676680"/>
              <a:ext cx="1143000" cy="1143000"/>
              <a:chOff x="193680" y="3676680"/>
              <a:chExt cx="1143000" cy="1143000"/>
            </a:xfrm>
          </p:grpSpPr>
          <p:sp>
            <p:nvSpPr>
              <p:cNvPr id="257" name=""/>
              <p:cNvSpPr/>
              <p:nvPr/>
            </p:nvSpPr>
            <p:spPr>
              <a:xfrm>
                <a:off x="193680" y="3676680"/>
                <a:ext cx="1143000" cy="11430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44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2800" y="397296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Yy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828800" y="3676680"/>
              <a:ext cx="1143000" cy="1143000"/>
              <a:chOff x="1828800" y="3676680"/>
              <a:chExt cx="1143000" cy="1143000"/>
            </a:xfrm>
          </p:grpSpPr>
          <p:sp>
            <p:nvSpPr>
              <p:cNvPr id="260" name=""/>
              <p:cNvSpPr/>
              <p:nvPr/>
            </p:nvSpPr>
            <p:spPr>
              <a:xfrm>
                <a:off x="1828800" y="3676680"/>
                <a:ext cx="1143000" cy="11430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44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77920" y="397296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Yy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384200" y="3956040"/>
              <a:ext cx="358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413000" y="4600440"/>
            <a:ext cx="277560" cy="714600"/>
          </a:xfrm>
          <a:prstGeom prst="downArrow">
            <a:avLst>
              <a:gd name="adj1" fmla="val 50000"/>
              <a:gd name="adj2" fmla="val 64364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178680" y="3687840"/>
            <a:ext cx="2778120" cy="1143000"/>
            <a:chOff x="6178680" y="3687840"/>
            <a:chExt cx="2778120" cy="1143000"/>
          </a:xfrm>
        </p:grpSpPr>
        <p:grpSp>
          <p:nvGrpSpPr>
            <p:cNvPr id="265" name=""/>
            <p:cNvGrpSpPr/>
            <p:nvPr/>
          </p:nvGrpSpPr>
          <p:grpSpPr>
            <a:xfrm>
              <a:off x="6178680" y="3687840"/>
              <a:ext cx="1143000" cy="1143000"/>
              <a:chOff x="6178680" y="3687840"/>
              <a:chExt cx="1143000" cy="1143000"/>
            </a:xfrm>
          </p:grpSpPr>
          <p:sp>
            <p:nvSpPr>
              <p:cNvPr id="266" name=""/>
              <p:cNvSpPr/>
              <p:nvPr/>
            </p:nvSpPr>
            <p:spPr>
              <a:xfrm>
                <a:off x="6178680" y="3687840"/>
                <a:ext cx="1143000" cy="11430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44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50120" y="3984120"/>
                <a:ext cx="604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Rr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813800" y="3687840"/>
              <a:ext cx="1143000" cy="1143000"/>
              <a:chOff x="7813800" y="3687840"/>
              <a:chExt cx="1143000" cy="1143000"/>
            </a:xfrm>
          </p:grpSpPr>
          <p:sp>
            <p:nvSpPr>
              <p:cNvPr id="269" name=""/>
              <p:cNvSpPr/>
              <p:nvPr/>
            </p:nvSpPr>
            <p:spPr>
              <a:xfrm>
                <a:off x="7813800" y="3687840"/>
                <a:ext cx="1143000" cy="11430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44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85240" y="3984120"/>
                <a:ext cx="604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Rr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7369200" y="3967200"/>
              <a:ext cx="358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397640" y="4611600"/>
            <a:ext cx="277920" cy="714600"/>
          </a:xfrm>
          <a:prstGeom prst="downArrow">
            <a:avLst>
              <a:gd name="adj1" fmla="val 50000"/>
              <a:gd name="adj2" fmla="val 6428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61760" y="5991840"/>
            <a:ext cx="1127880" cy="875520"/>
          </a:xfrm>
          <a:prstGeom prst="hexagon">
            <a:avLst>
              <a:gd name="adj" fmla="val 32206"/>
              <a:gd name="vf" fmla="val 11547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55800" y="5991840"/>
            <a:ext cx="1127880" cy="875520"/>
          </a:xfrm>
          <a:prstGeom prst="hexagon">
            <a:avLst>
              <a:gd name="adj" fmla="val 32206"/>
              <a:gd name="vf" fmla="val 11547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32920" y="4852080"/>
            <a:ext cx="1464120" cy="875520"/>
          </a:xfrm>
          <a:prstGeom prst="hexagon">
            <a:avLst>
              <a:gd name="adj" fmla="val 41807"/>
              <a:gd name="vf" fmla="val 11547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/1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012680" y="5365800"/>
            <a:ext cx="1068840" cy="891360"/>
            <a:chOff x="1012680" y="5365800"/>
            <a:chExt cx="1068840" cy="891360"/>
          </a:xfrm>
        </p:grpSpPr>
        <p:grpSp>
          <p:nvGrpSpPr>
            <p:cNvPr id="277" name=""/>
            <p:cNvGrpSpPr/>
            <p:nvPr/>
          </p:nvGrpSpPr>
          <p:grpSpPr>
            <a:xfrm>
              <a:off x="1012680" y="5365800"/>
              <a:ext cx="1068840" cy="891360"/>
              <a:chOff x="1012680" y="5365800"/>
              <a:chExt cx="1068840" cy="891360"/>
            </a:xfrm>
          </p:grpSpPr>
          <p:sp>
            <p:nvSpPr>
              <p:cNvPr id="278" name=""/>
              <p:cNvSpPr/>
              <p:nvPr/>
            </p:nvSpPr>
            <p:spPr>
              <a:xfrm>
                <a:off x="1012680" y="5543280"/>
                <a:ext cx="35604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90160" y="53658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24760" y="57222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24760" y="5543280"/>
                <a:ext cx="35676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47280" y="536580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90160" y="57222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47280" y="590076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90160" y="590076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368720" y="5543280"/>
                <a:ext cx="534600" cy="53496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288800" y="5485680"/>
              <a:ext cx="60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ea18"/>
                  </a:solidFill>
                  <a:latin typeface="Arial"/>
                </a:rPr>
                <a:t>yy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005600" y="5365800"/>
            <a:ext cx="1068840" cy="891360"/>
            <a:chOff x="7005600" y="5365800"/>
            <a:chExt cx="1068840" cy="891360"/>
          </a:xfrm>
        </p:grpSpPr>
        <p:grpSp>
          <p:nvGrpSpPr>
            <p:cNvPr id="289" name=""/>
            <p:cNvGrpSpPr/>
            <p:nvPr/>
          </p:nvGrpSpPr>
          <p:grpSpPr>
            <a:xfrm>
              <a:off x="7005600" y="5365800"/>
              <a:ext cx="1068840" cy="891360"/>
              <a:chOff x="7005600" y="5365800"/>
              <a:chExt cx="1068840" cy="891360"/>
            </a:xfrm>
          </p:grpSpPr>
          <p:sp>
            <p:nvSpPr>
              <p:cNvPr id="290" name=""/>
              <p:cNvSpPr/>
              <p:nvPr/>
            </p:nvSpPr>
            <p:spPr>
              <a:xfrm>
                <a:off x="7005600" y="5543280"/>
                <a:ext cx="35604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183080" y="53658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17680" y="57222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717680" y="5543280"/>
                <a:ext cx="35676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40200" y="536580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83080" y="57222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40200" y="590076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83080" y="590076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61640" y="5543280"/>
                <a:ext cx="534600" cy="53496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7345800" y="5485680"/>
              <a:ext cx="476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ea18"/>
                  </a:solidFill>
                  <a:latin typeface="Arial"/>
                </a:rPr>
                <a:t>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336920" y="6185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pply the Rule of Multi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H="1">
            <a:off x="696240" y="4325760"/>
            <a:ext cx="1870200" cy="1065240"/>
          </a:xfrm>
          <a:prstGeom prst="wedgeEllipseCallout">
            <a:avLst>
              <a:gd name="adj1" fmla="val 30643"/>
              <a:gd name="adj2" fmla="val 8188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ot i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ry thi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55240" y="1613880"/>
            <a:ext cx="304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ABbccDdEEF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91640" y="1613880"/>
            <a:ext cx="2893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aBbccDdeeF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45000" y="1613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00440" y="2151000"/>
            <a:ext cx="277920" cy="714600"/>
          </a:xfrm>
          <a:prstGeom prst="downArrow">
            <a:avLst>
              <a:gd name="adj1" fmla="val 50000"/>
              <a:gd name="adj2" fmla="val 6428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35320" y="296316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AabbccDdEeF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59080" y="4207680"/>
            <a:ext cx="26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b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Bb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bb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0" y="4674600"/>
            <a:ext cx="239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c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c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c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67000" y="5141160"/>
            <a:ext cx="264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d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Dd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Dd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68440" y="560808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E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e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E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67720" y="6074640"/>
            <a:ext cx="230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f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f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F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67000" y="3741120"/>
            <a:ext cx="264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A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a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A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36440" y="374112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/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41120" y="42076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/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19760" y="46746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44360" y="5141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/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19760" y="56080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49040" y="607464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/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92040" y="5960880"/>
            <a:ext cx="1302120" cy="778320"/>
          </a:xfrm>
          <a:prstGeom prst="ellipse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/6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400800" y="4267080"/>
            <a:ext cx="1066680" cy="19814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0066"/>
                </a:solidFill>
                <a:latin typeface="Arial"/>
              </a:rPr>
              <a:t>Rule of addition</a:t>
            </a:r>
            <a:endParaRPr b="1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hance that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 event can occur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 more different way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sum of the separate probabilitie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of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Bb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Bb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Bb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4114800"/>
            <a:ext cx="3886200" cy="213372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3809880"/>
            <a:ext cx="3886200" cy="457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9720" y="38091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76680" y="380916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63080" y="3809160"/>
            <a:ext cx="13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offspr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01280" y="4692240"/>
            <a:ext cx="3079080" cy="489960"/>
            <a:chOff x="1601280" y="4692240"/>
            <a:chExt cx="3079080" cy="489960"/>
          </a:xfrm>
        </p:grpSpPr>
        <p:sp>
          <p:nvSpPr>
            <p:cNvPr id="331" name=""/>
            <p:cNvSpPr/>
            <p:nvPr/>
          </p:nvSpPr>
          <p:spPr>
            <a:xfrm>
              <a:off x="160128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7768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3400" y="469224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=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76280" y="46922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3956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744200" y="4266360"/>
            <a:ext cx="3010680" cy="550800"/>
            <a:chOff x="1744200" y="4266360"/>
            <a:chExt cx="3010680" cy="550800"/>
          </a:xfrm>
        </p:grpSpPr>
        <p:sp>
          <p:nvSpPr>
            <p:cNvPr id="337" name=""/>
            <p:cNvSpPr/>
            <p:nvPr/>
          </p:nvSpPr>
          <p:spPr>
            <a:xfrm>
              <a:off x="1744200" y="426636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08440" y="4266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65120" y="426636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601280" y="5682960"/>
            <a:ext cx="3079080" cy="489960"/>
            <a:chOff x="1601280" y="5682960"/>
            <a:chExt cx="3079080" cy="489960"/>
          </a:xfrm>
        </p:grpSpPr>
        <p:sp>
          <p:nvSpPr>
            <p:cNvPr id="341" name=""/>
            <p:cNvSpPr/>
            <p:nvPr/>
          </p:nvSpPr>
          <p:spPr>
            <a:xfrm>
              <a:off x="160128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7768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3400" y="568296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=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76280" y="568296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3956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764000" y="5257080"/>
            <a:ext cx="2990880" cy="550800"/>
            <a:chOff x="1764000" y="5257080"/>
            <a:chExt cx="2990880" cy="550800"/>
          </a:xfrm>
        </p:grpSpPr>
        <p:sp>
          <p:nvSpPr>
            <p:cNvPr id="347" name=""/>
            <p:cNvSpPr/>
            <p:nvPr/>
          </p:nvSpPr>
          <p:spPr>
            <a:xfrm>
              <a:off x="176400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87200" y="525708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65120" y="525708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401520" y="4343040"/>
            <a:ext cx="913680" cy="1709280"/>
            <a:chOff x="6401520" y="4343040"/>
            <a:chExt cx="913680" cy="1709280"/>
          </a:xfrm>
        </p:grpSpPr>
        <p:sp>
          <p:nvSpPr>
            <p:cNvPr id="351" name=""/>
            <p:cNvSpPr/>
            <p:nvPr/>
          </p:nvSpPr>
          <p:spPr>
            <a:xfrm>
              <a:off x="6651360" y="434304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51360" y="491148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1520" y="4952520"/>
              <a:ext cx="3744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51360" y="556236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29400" y="5481720"/>
              <a:ext cx="685800" cy="0"/>
            </a:xfrm>
            <a:prstGeom prst="line">
              <a:avLst/>
            </a:prstGeom>
            <a:ln w="76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334120" y="5181480"/>
            <a:ext cx="838080" cy="38124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3:49:32Z</dcterms:created>
  <dc:creator>Kim Foglia</dc:creator>
  <dc:description>All Rights Reserved. Copyright 2003. WD Interactive.</dc:description>
  <cp:keywords>Education Biology Zone Kim Foglia</cp:keywords>
  <dc:language>en-US</dc:language>
  <cp:lastModifiedBy>Kimberly Area School District</cp:lastModifiedBy>
  <cp:lastPrinted>2006-01-12T04:13:46Z</cp:lastPrinted>
  <dcterms:modified xsi:type="dcterms:W3CDTF">2008-12-15T15:44:28Z</dcterms:modified>
  <cp:revision>40</cp:revision>
  <dc:subject>AP &amp; Regents Biology</dc:subject>
  <dc:title>Chapter  14.   Probability &amp; Genetics</dc:title>
</cp:coreProperties>
</file>